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F86D-38ED-40BE-A211-06B03B531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8FBB-97F7-4086-9F48-BD7217E56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F50A-922D-40DC-80A7-0F747820E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9E65-4EC2-4B73-A8CD-84ECF1755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13E9-5E81-4643-932B-0E14E388C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1187-4E2D-4963-84B2-7D0193184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B1E9-1209-4BB8-9425-16D1896DD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B159-832C-4D2C-A544-92DA32A56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97AD-20B5-4868-89A3-E69ECC19E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4F79-83AF-4800-9841-29B6DBD7E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5DC9-D9B3-4277-BF44-A715C3B93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0E49-07EF-4546-ABD1-190586679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DD80-363E-468E-9A34-74740A063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B929-468A-4882-9641-5B9E59BB2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58C5-AF72-44B4-8E6D-1EC931CB7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6E12-5835-47CB-83B3-9DF7DF377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20AC-4C21-4230-96E9-FB8B47F97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D429-F3A2-4814-8E93-954A4ED5F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B08D-4753-4623-B314-6CBEDB548D4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2AD64-7C70-40C1-A5E2-C02C3CBD361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24541-041E-4C89-AD4B-D4F6615813F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ACD53-3838-4FEF-8467-42796735F1F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874A2-C452-4620-AE0E-469008B41D0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941B9-0B79-4DC5-814C-D6E152E3DCB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A5270-4AE4-4175-8914-1402E97A064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7D1BF-8187-4E89-8B46-725CB58A93C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5B2F9-25AA-4CF4-A457-D51389D4326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A8CE0-545D-462B-B0D0-7D2E776F1ED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0FE0D-5260-4C6B-A0DC-4EA738304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7175-8670-4FA5-9EAF-F2B3AEA47E7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05AD78-9AB1-4E1B-AED5-44DF0848023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54141-94C3-4559-B29D-F278F9A115E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E279B3-C241-4C56-9B73-2A558EAB21A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19714-1877-4AFE-AC63-F973413FE52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091CAC-0167-444D-A3BA-51341017866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0D9B40-85ED-4F23-B49D-4C8AEB19AFA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05809-C495-428A-A76C-164A651D996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E47AF-5D76-4078-AAA8-5229EC8EABF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091221-1C9E-4F92-B134-CD030595237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5B4788-8107-49AB-9C5B-754CA2966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F181-5BA8-492C-AC97-A2B9F4BABD0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A82330-2CD3-43A6-9D29-3AEAE802F9B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F132D6-FBEF-417C-8574-32C6E3CAE0E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13A4EA-827F-4E5B-9306-7FBB0A7BE0B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323FF6-D800-421C-96B8-72FEEF5DF3F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C9BAC8-A3C1-41BA-BF9F-E26F17F990F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701C91-B553-40A7-8B1B-BDFBF60CFEB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1ABF04-134E-4B4C-ABE1-D823117D8E4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3C787D-AD85-4C3B-B826-D48D750FCF3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FF047E-ACE5-4EC3-815D-9B87DBB12E5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462702-64E5-4AD4-B8F6-7017D0DC2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8C843-3DF0-4830-8BC7-C23C6CC56A6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90C068-4517-4210-81C1-7C4C6710A49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EBE0B6-1DEC-4690-8A18-9816DC1C338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38DB8F-A566-4FEC-92D3-FA22BA20614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D7F1B-2ADA-4B0F-9445-59DE38B7BD6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60756-7F14-4652-BFE0-39CF86E78DF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860E5-CCE2-49C3-9646-D424B84B38A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A2BE5-143A-429B-A9AB-0C5BDF35A80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F2782-F8BF-4F91-9F0E-7AAB8B7A569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553DB-2E12-4E19-9156-4FEC0568A0D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778EF-E752-429D-B810-2006CD2EE9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D42F3-D530-41B6-B377-146E84530AE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4DCE5-F1CC-4D72-B59D-2738880AFB4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6B607-6941-48FD-8731-63AAC2C1A45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9A4FA-05BF-49C9-8DDE-B2D2029961A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0C20C-E640-46AD-AEF6-683AB1C2AF7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67529-CC58-4781-8821-A80D62F1BC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D8417-98A0-4D5B-8699-67F3E3DB24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3C2ED-AC0F-4994-9B0C-0B93D0D4A3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49E43-0013-4AB9-8DAA-F9D2AB23F0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82CFA-B3EC-4516-AC60-7B217B90FA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9F91B-4699-4528-BEF1-DAE173E6CC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F255-E3C2-4DBF-9787-75068F54A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32770-7DD3-4B04-811A-E4F25CCD6F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6A44D-3965-4A1C-AC17-B475C21061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EFD06-5E3E-48A7-B122-28F95F6CEA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67DC5-9C7E-4BD9-95EB-133CA0F5A3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C214A-F042-4D07-B745-E67D63A478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C27C-D8F8-47B9-839A-9EF0110EF2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8C0E-0DE1-4FF0-9E59-9973E4F112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8680-EACC-445E-9383-D1D0D87612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A27B-9166-438D-AE48-1DAA3F591A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3293-E41A-4089-A7B9-61C418803E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30BA-F5AF-41CC-B889-DCB276BA3A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8F65-2EE8-4573-90F7-AC07A5341B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7791-A2F6-47B0-A55B-5529133870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8B24-EC96-4196-8E16-D9D298C109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CB12-FDF9-4AB5-855F-8F537F2BC8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5AAE-1B2E-4D9C-848F-338D829316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2CC4-5AB3-4C72-A08E-1A49292B5E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B2AE-C166-4E64-AB36-3D35A66CC4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55F73-678D-4AD7-B087-DFC4B9A095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0E3EC-0ACB-47C1-9A5B-3590B1423E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0AE68-1FBD-4986-9D4F-ED39691F2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BCC6F-1B73-484D-83E1-73DE6B9851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F217C-1C80-4E11-B68A-346417F3DB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4B82B-2E49-4516-8814-49558F549D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B916D-254A-4126-B813-C73C899C41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E0FA4-0AD2-4D3C-905B-945C414879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B37C5-2A3F-429E-9602-328C6A82A5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3D3DE-081C-48BF-84D3-2A3808235D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BA717-4A9E-4384-98E4-5251CD5F27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ACB60-4827-4254-B289-3C7C8152AB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0317D-2AE3-40DB-8C8F-AF896F5F3A7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BE471C-5A23-48B6-BFC8-4C644DF5C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5CCD-C52E-4ADC-91F9-AED9705CEF7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F5515-7899-4132-90FE-4E4397415E5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C190B-B9C5-459A-8713-40B93EC710E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9681E-90B7-4858-B2B1-0D511F0F986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F4ABC-DD76-4B8A-B3A1-E72814776D4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F6756-019C-41DF-B571-BD06AB2FFE8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7BF6F4-8C7C-46BE-B299-7F5AB675E97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C56471-39AB-4D2A-AFDB-796D9AABED6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5FC397-C289-4A92-9B3F-2D9A404573E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1FD963-5C7C-4D30-AB53-B8018215DF2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B1C83A-16F9-4259-B7A6-8257FE6DA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6FE3D-1870-44A7-ABA4-4791A0C69A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486AE-B792-4B98-A78D-9FC55AFB221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0F2E9-A475-4E46-BB52-D1F6012EB37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2D48D-EE83-469B-A02F-36E68FE7605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9BF94-E57C-49B6-9918-0A20F61267D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0AA6F-42D5-4185-8544-6EADF06DA70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8DEDF-AAEA-4754-9CC4-17754A0C586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0246E-3C1F-4E6F-9802-30B915EE363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C58C4-576D-4E50-BB86-A91E0CAA0ED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A93CB-A788-43BA-B3B9-ADBBBD32AE2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44FA9-72D0-42E4-BA4A-ECF8CD95B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43C4-0C71-4CE4-A0F4-8E41FE2FEC8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72B83-6D93-426A-B8A2-F71BC4E17CD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5993-BE06-4B77-8185-5292BBBBFC8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5E785-92C2-47D4-A7D3-9658434AC04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5C133-6F69-4379-87C3-2FBD92B104E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E1CEA0-9502-484C-BEC4-F0BE9AC1207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09CB9-E95A-4001-A9E2-5695432902A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5FB6D-6132-4D84-A3D6-A7997106464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065CD-ECD4-44DE-99D4-6C3DCA7B815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C8D7C9-EE74-4504-835A-7929087A22E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B734B-63FF-49D8-8314-B9A1C3902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D44F-E687-4573-A504-2C97062B728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804580-8D12-4071-AC59-015467D6A09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E297B-965D-442D-90BD-D3651C30F70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6BFF89-C926-4D1E-9B92-82ED73125AA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0D812-AFBB-4F07-B4CF-628C4E911F2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2B6E9-E9CB-4D28-9F7E-BA072564E30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ABE52B-4CDA-4EA5-BA0A-BB0A987855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E61754-7749-4AE3-A6F3-14EE37778DB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946960-CC74-4F8F-AE71-8CC1ECADD23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A43101-0CF2-4F1F-8C08-8D29B610622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3127A4-42F4-44E9-B359-32AB49328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5B8F-2488-4D72-BE19-20CDA83AC7F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ACAF5C-BA46-4CDC-B238-33653CAC4F8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3382B7-102E-4C2A-B762-3CF7B77CD2F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5AF8ED-1616-4E80-B932-3CB25DC179D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EF5B10-C016-42D2-8A5D-D87DA27E84A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4E00DF-F6CB-44EE-82DE-10C6004B168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CF4788-F6D5-466B-9634-3986B924D9F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159967-DC55-444C-83BC-D0B4DA2A456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F27FE-8F61-4B85-BA2C-111EDEA2D1A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3B8D6-F2D8-4096-AC51-81F494236C4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FB2BC-2357-4778-AD1E-69F53CEF6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35461A67-E131-4248-90CF-FE24361EFC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1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F8B15C00-C4E5-44A0-A90A-5E07E20F81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ftr" idx="2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9414EC8A-A830-4822-9038-5BCF17FFFE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2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B25CA93F-3C37-462D-8676-466C5811E1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6952010C-AB97-408C-878A-D9BAB5EE89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CE8F3CD6-DFCC-41F2-81C0-20316D3B06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AE830E0E-1E99-4FE2-9355-94DAB1697B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9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A0A9A814-FFDC-4032-80C4-6B0346EBF3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1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1CFA2669-F1A4-4E22-8002-1C6F03D7D4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13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DD18CF85-DC2D-4DC4-9006-8F24319DAE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5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DE87D772-90B2-49F3-AFA6-6F4FF3C267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c01l01_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2282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.1-</a:t>
            </a:r>
            <a:fld id="{7FF77D37-B229-4EAA-9CE9-EA65D2E24E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0A22103B-6A49-4BCD-B75E-FFC0B6B8076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2200" y="1622520"/>
            <a:ext cx="783900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ish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un is a word used to identify people, animals, places, things, or ideas. Unlike English, all Spanish nouns, even those that refer to non-living things, have gender; that is, they are considered either masculine or feminine. As in English, nouns in Spanish also have number, meaning that they are either singular or plu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anteTodo"/>
          <p:cNvPicPr/>
          <p:nvPr/>
        </p:nvPicPr>
        <p:blipFill>
          <a:blip r:embed="rId1"/>
          <a:stretch/>
        </p:blipFill>
        <p:spPr>
          <a:xfrm>
            <a:off x="736560" y="2247840"/>
            <a:ext cx="16765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7FAC8FC0-7CB8-4343-BB9E-CD2A5FF0FA3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ral of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anish, nouns that end in a vowel form the plural by add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ouns that end in a consonant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ouns that e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ad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c01l01_p013_02"/>
          <p:cNvPicPr/>
          <p:nvPr/>
        </p:nvPicPr>
        <p:blipFill>
          <a:blip r:embed="rId1"/>
          <a:stretch/>
        </p:blipFill>
        <p:spPr>
          <a:xfrm>
            <a:off x="304920" y="4275000"/>
            <a:ext cx="8555040" cy="13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7312A1E8-B67E-414F-A9C0-27959ADE06F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when a singular noun has an accent mark on the last syllable, the accent is dropped from the plural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" descr="c01l01_p013_03"/>
          <p:cNvPicPr/>
          <p:nvPr/>
        </p:nvPicPr>
        <p:blipFill>
          <a:blip r:embed="rId1"/>
          <a:stretch/>
        </p:blipFill>
        <p:spPr>
          <a:xfrm>
            <a:off x="457200" y="3149640"/>
            <a:ext cx="82296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29E21623-8D21-4466-98DE-521EA8D729F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masculine plural form to refer to a group that includes both males and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c01l01_p013_04"/>
          <p:cNvPicPr/>
          <p:nvPr/>
        </p:nvPicPr>
        <p:blipFill>
          <a:blip r:embed="rId1"/>
          <a:stretch/>
        </p:blipFill>
        <p:spPr>
          <a:xfrm>
            <a:off x="457200" y="2793960"/>
            <a:ext cx="822960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350818A6-E530-4295-A173-21068B53DC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ish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know, English often uses definite article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indefinite articl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efore nouns. Spanish also has definite and indefinite articles. Unlike English, Spanish articles vary in form because they agree in gender and number with the nouns they mod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anteTodo"/>
          <p:cNvPicPr/>
          <p:nvPr/>
        </p:nvPicPr>
        <p:blipFill>
          <a:blip r:embed="rId1"/>
          <a:stretch/>
        </p:blipFill>
        <p:spPr>
          <a:xfrm>
            <a:off x="736560" y="2247840"/>
            <a:ext cx="16765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9C80DE07-181C-47E9-B524-5EA403A129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5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has four forms that are equivalent to the English definite artic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You use definite articles to refer to specific nou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3" descr="c01l01_p014_01"/>
          <p:cNvPicPr/>
          <p:nvPr/>
        </p:nvPicPr>
        <p:blipFill>
          <a:blip r:embed="rId1"/>
          <a:stretch/>
        </p:blipFill>
        <p:spPr>
          <a:xfrm>
            <a:off x="457200" y="2146320"/>
            <a:ext cx="8229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44839D77-4B72-462D-843B-B79F6EC7E30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finit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222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ish has four forms that are equivalent to the English indefinite article, which according to context may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You use indefinite articles to refer to unspecified persons or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c01l01_p014_02"/>
          <p:cNvPicPr/>
          <p:nvPr/>
        </p:nvPicPr>
        <p:blipFill>
          <a:blip r:embed="rId1"/>
          <a:stretch/>
        </p:blipFill>
        <p:spPr>
          <a:xfrm>
            <a:off x="457200" y="2082960"/>
            <a:ext cx="82296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82ACF600-623B-4823-AF22-B144A35EAAA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685800" y="2120760"/>
          <a:ext cx="7772400" cy="4264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591560">
                <a:tc gridSpan="2">
                  <a:txBody>
                    <a:bodyPr lIns="182880" rIns="182880" tIns="182880" bIns="182880" anchor="t">
                      <a:noAutofit/>
                    </a:bodyPr>
                    <a:p>
                      <a:pPr>
                        <a:spcBef>
                          <a:spcPts val="7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a definite article for each noun in the first column and an indefinite article for each noun in the second column. The first item has been done for you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8e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2640"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ch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ch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mal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cuader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lápi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muje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autobú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escuel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computador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homb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señor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láp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1fa"/>
                    </a:solidFill>
                  </a:tcPr>
                </a:tc>
              </a:tr>
            </a:tbl>
          </a:graphicData>
        </a:graphic>
      </p:graphicFrame>
      <p:sp>
        <p:nvSpPr>
          <p:cNvPr id="545" name="Text Box 147"/>
          <p:cNvSpPr/>
          <p:nvPr/>
        </p:nvSpPr>
        <p:spPr>
          <a:xfrm>
            <a:off x="1418400" y="376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Comic Sans MS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66" descr="intentalo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6271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99"/>
          <p:cNvSpPr/>
          <p:nvPr/>
        </p:nvSpPr>
        <p:spPr>
          <a:xfrm>
            <a:off x="5330880" y="376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ff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13"/>
          <p:cNvSpPr/>
          <p:nvPr/>
        </p:nvSpPr>
        <p:spPr>
          <a:xfrm>
            <a:off x="838080" y="3363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el, la, los o l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214"/>
          <p:cNvSpPr/>
          <p:nvPr/>
        </p:nvSpPr>
        <p:spPr>
          <a:xfrm>
            <a:off x="838080" y="3317760"/>
            <a:ext cx="3124440" cy="457200"/>
          </a:xfrm>
          <a:prstGeom prst="flowChartTerminator">
            <a:avLst/>
          </a:prstGeom>
          <a:noFill/>
          <a:ln w="25560">
            <a:solidFill>
              <a:srgbClr val="e69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16"/>
          <p:cNvSpPr/>
          <p:nvPr/>
        </p:nvSpPr>
        <p:spPr>
          <a:xfrm>
            <a:off x="4673520" y="3361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un, una, unos o un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17"/>
          <p:cNvSpPr/>
          <p:nvPr/>
        </p:nvSpPr>
        <p:spPr>
          <a:xfrm>
            <a:off x="4673520" y="3317760"/>
            <a:ext cx="3048120" cy="457200"/>
          </a:xfrm>
          <a:prstGeom prst="flowChartTerminator">
            <a:avLst/>
          </a:prstGeom>
          <a:noFill/>
          <a:ln w="25560">
            <a:solidFill>
              <a:srgbClr val="e69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198652DC-C869-4E61-B5EB-BD6975D7D4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c01l01_p012_01"/>
          <p:cNvPicPr/>
          <p:nvPr/>
        </p:nvPicPr>
        <p:blipFill>
          <a:blip r:embed="rId1"/>
          <a:stretch/>
        </p:blipFill>
        <p:spPr>
          <a:xfrm>
            <a:off x="469800" y="1587600"/>
            <a:ext cx="82044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4C6B9D7B-D26E-4574-9FEE-C0004165435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shown above, nouns that ref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les, li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homb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masculine, while nou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refer to females, li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muj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generally femin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0AFF711A-77BB-4E68-BE03-1B8E2C689B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nouns that refer to male beings en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ir corresponding feminine forms en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pectivel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c01l01_p012_02"/>
          <p:cNvPicPr/>
          <p:nvPr/>
        </p:nvPicPr>
        <p:blipFill>
          <a:blip r:embed="rId1"/>
          <a:stretch/>
        </p:blipFill>
        <p:spPr>
          <a:xfrm>
            <a:off x="865080" y="3146400"/>
            <a:ext cx="74138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5D957538-8429-4FF0-8D75-610AD3BC55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culine and feminine form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ns that e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i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, so gender is indicated by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sculine)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eminine). Some other nouns have identical masculine and feminine f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" descr="c01l01_p012_03"/>
          <p:cNvPicPr/>
          <p:nvPr/>
        </p:nvPicPr>
        <p:blipFill>
          <a:blip r:embed="rId1"/>
          <a:stretch/>
        </p:blipFill>
        <p:spPr>
          <a:xfrm>
            <a:off x="635040" y="4381560"/>
            <a:ext cx="788508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46018887-3D8F-415F-84DD-31F742C4B2D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01l01_p013_01"/>
          <p:cNvPicPr/>
          <p:nvPr/>
        </p:nvPicPr>
        <p:blipFill>
          <a:blip r:embed="rId1"/>
          <a:stretch/>
        </p:blipFill>
        <p:spPr>
          <a:xfrm>
            <a:off x="1079640" y="1536840"/>
            <a:ext cx="69976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5ED5A4B2-3FB1-45AF-96DA-52C52B37E7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noun endings are strongly associated with a specific gender, so you can use them to determine if a noun is masculine or femin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8B1F93B4-C3C4-4E6B-9DB4-09E8E8F6394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gender of nouns that refer to non-living things cannot be determined by foolproof rules, you should memorize the gender of each noun you learn. It is helpful to memorize each noun with its corresponding articl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sculine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emin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3"/>
          <p:cNvSpPr/>
          <p:nvPr/>
        </p:nvSpPr>
        <p:spPr>
          <a:xfrm>
            <a:off x="22860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 Vista Higher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4"/>
          <p:cNvSpPr/>
          <p:nvPr/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1-</a:t>
            </a:r>
            <a:fld id="{FD986EFC-16D8-4BB7-9C6F-62BC9E9E990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e694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reason to memorize the gender of every noun is that there are common exceptions to the rules of gender. For exampl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map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dí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are masculine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ma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nd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is femin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56:05Z</dcterms:created>
  <dc:creator>Jason Miranda</dc:creator>
  <dc:description/>
  <dc:language>en-US</dc:language>
  <cp:lastModifiedBy>Jose</cp:lastModifiedBy>
  <dcterms:modified xsi:type="dcterms:W3CDTF">2013-08-18T01:20:25Z</dcterms:modified>
  <cp:revision>42</cp:revision>
  <dc:subject/>
  <dc:title>PowerPoint Presentation</dc:title>
</cp:coreProperties>
</file>